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png" ContentType="image/png"/>
  <Override PartName="/ppt/media/image14.jpeg" ContentType="image/jpeg"/>
  <Override PartName="/ppt/media/image1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B87-9BCA-40BF-8CB9-DEFDE88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1AB-C532-4F4E-BF91-B61191E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001-67A3-4F84-8B3B-A123FA84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E73-6AA0-489F-AE4B-274D3936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82B-FF8F-4569-A762-FB8F7CEE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396-1F62-4112-9AF0-F9735AFA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B89-1473-4C80-9741-720953CD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B04-55D3-4082-87BF-FE24F76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F9D-0ED2-4EC1-A8B4-E49D861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465-D6C2-4441-B76D-745E760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2A2-4BC5-4739-B59A-4CFA92B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0EC-D3D0-4AD3-9493-35C6751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7BDE-7B52-4BFD-9D82-53895934B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y Documents\My Pictures\Animations\camera3.gif"/>
          <p:cNvPicPr/>
          <p:nvPr/>
        </p:nvPicPr>
        <p:blipFill>
          <a:blip r:embed="rId2"/>
          <a:stretch/>
        </p:blipFill>
        <p:spPr>
          <a:xfrm>
            <a:off x="777240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asic Film Term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ypes of Angl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gle is determined by where the camera is placed not the subject matter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s can serve as commentary on the subject ma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d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Eye 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is placed directly overh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emely disorie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er is god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_x0008_pool.jpg                                                       00000010&#9;iBook2 HD                      ABA78158:"/>
          <p:cNvPicPr/>
          <p:nvPr/>
        </p:nvPicPr>
        <p:blipFill>
          <a:blip r:embed="rId1"/>
          <a:stretch/>
        </p:blipFill>
        <p:spPr>
          <a:xfrm>
            <a:off x="4818240" y="3429000"/>
            <a:ext cx="3868560" cy="2789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250960" y="6324480"/>
            <a:ext cx="23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verly Hills Girl Sc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 Angle (h/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looks down at what is being photograp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s away power of subject, makes it insignific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a general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416640" y="3701880"/>
            <a:ext cx="1731960" cy="269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340320" y="644508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thout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w Angle (l/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 is located below subject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s height and pow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su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942960" y="62326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Patri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651720" y="3124080"/>
            <a:ext cx="2035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lique Ang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tilt of the camera s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figures appear to b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 out of the fr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s t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ran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used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int of vie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a dru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&#10;matrix.jpg                                                     00000010_x0006_ORACLE                         ABA78158:"/>
          <p:cNvPicPr/>
          <p:nvPr/>
        </p:nvPicPr>
        <p:blipFill>
          <a:blip r:embed="rId1"/>
          <a:stretch/>
        </p:blipFill>
        <p:spPr>
          <a:xfrm>
            <a:off x="6095880" y="2514600"/>
            <a:ext cx="2440080" cy="3809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784200" y="636912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 of View (POV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taken from the vantage point a particular character, or what a character s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ye-Level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ghly 5 to 6 feet off the ground, the way an actual observer might view a sce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horizontally on a fixed ba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points up or down from a fixed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26720"/>
            <a:ext cx="792504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ing line between the edges of the screen image and the enclosing darkness of the theate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hoto of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&#9;bogie.gif                                                      00000010&#9;iBook2 HD                      ABA78158:"/>
          <p:cNvPicPr/>
          <p:nvPr/>
        </p:nvPicPr>
        <p:blipFill>
          <a:blip r:embed="rId1"/>
          <a:stretch/>
        </p:blipFill>
        <p:spPr>
          <a:xfrm>
            <a:off x="3809880" y="4191120"/>
            <a:ext cx="38736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cking (dolly) sh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through space on a wheeled truck (or dolly), but stays in the same pl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mera moves up or down through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camera movement, but a shift in the focal length of the camera lens to give the impression that the camera is getting closer to or farther from an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tting from Scene to Scen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between scenes when one scenes ends and another one be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adual transition in which the end of one scene is superimposed over the beginning of a new o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de-out/Fade 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cene gradually goes dark or a new one gradually emerges from dark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tical effect in which one shot appears to push appears to push the preceding one from the scre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ptical effect in which one shot appears to emerge from a shape on the scre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the basic elements of film that a director can use to tell his/her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editing, these shots are put together to create (hopefully!) a coherent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This Mea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ypes of Sho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ematic shots are defined by the amount of subject matter within the fr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ts can vary in d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ts vary in time from subliminal (a few frames) to quick (less than a second) to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more than a second but less than a minute)  to lengthy (more than a minu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blishing Sho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or Extreme Long Sho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t taken from a great distance, almost always an exterior shot, shows much of loc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971800" y="3678120"/>
            <a:ext cx="4419720" cy="278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13720" y="6445080"/>
            <a:ext cx="38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ana Jones And The Temple Of D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 Shot (L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relative term) A shot taken from a sufficient distance to show a landscape, a building, or a large crow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_x0010_austinpowers.jpg                                               00000010_x0006_ORACLE                         ABA78158:"/>
          <p:cNvPicPr/>
          <p:nvPr/>
        </p:nvPicPr>
        <p:blipFill>
          <a:blip r:embed="rId1"/>
          <a:stretch/>
        </p:blipFill>
        <p:spPr>
          <a:xfrm>
            <a:off x="3505320" y="3392640"/>
            <a:ext cx="4952880" cy="331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12000" y="6048360"/>
            <a:ext cx="25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ustin Power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py Who Shagge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um Shot (M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lso relative) a shot between a long shot and a close-up that might show  two people in full figure or several people from the waist 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429000" y="4235400"/>
            <a:ext cx="3438360" cy="2228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09040" y="644508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Talented Mr. Rip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e-Up (C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of a small object or face that fills the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s importance to object photograp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267080" y="38545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54200" y="644364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der Pre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reme Close-Up (EC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ot of a small object or part of a face that fills the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21480" y="6323040"/>
            <a:ext cx="20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aint In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&#9;rocky.jpg                                                      00000010_x0006_ORACLE                         ABA78158:"/>
          <p:cNvPicPr/>
          <p:nvPr/>
        </p:nvPicPr>
        <p:blipFill>
          <a:blip r:embed="rId2"/>
          <a:stretch/>
        </p:blipFill>
        <p:spPr>
          <a:xfrm>
            <a:off x="5410080" y="3733920"/>
            <a:ext cx="1809720" cy="2060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5031720" y="5867280"/>
            <a:ext cx="26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cky Horror Picture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 the Shoulder Sh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ually contains two figures, one with his/her back to the camera, and the other facing the cam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6600" y="63230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llow 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&#13;castaway2.jpg                                                  00000010_x0006_ORACLE                         ABA78158:"/>
          <p:cNvPicPr/>
          <p:nvPr/>
        </p:nvPicPr>
        <p:blipFill>
          <a:blip r:embed="rId2"/>
          <a:stretch/>
        </p:blipFill>
        <p:spPr>
          <a:xfrm>
            <a:off x="798480" y="3581280"/>
            <a:ext cx="4002120" cy="2738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428200" y="63244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st 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9:13:38Z</dcterms:created>
  <dc:creator>pmayhew</dc:creator>
  <dc:description/>
  <dc:language>en-US</dc:language>
  <cp:lastModifiedBy>Robin Murray</cp:lastModifiedBy>
  <dcterms:modified xsi:type="dcterms:W3CDTF">2011-10-31T19:40:39Z</dcterms:modified>
  <cp:revision>21</cp:revision>
  <dc:subject/>
  <dc:title>Basic Film Terms</dc:title>
</cp:coreProperties>
</file>